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1896-61E6-493B-A495-A9AB6DD23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C519-7935-4D79-9E03-6AF1BC98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B497-062E-4687-A3E3-4BA6D951B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ABB9-94D9-4895-8D97-B0F51D6A9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3F21-AA34-49A0-A64B-2806CFAD8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D3A3-2DF3-4911-A6DF-188A5C1F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8059A-97D3-4E1B-888C-C7F649B1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274E6-A24D-4996-924F-FB60DC8C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B995-264D-404F-A0E1-DA8577D7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01987-22EE-48B0-A8C3-15079CCD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11A88-146B-4EAE-BFDE-B1630939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3EBE-06CF-4B0A-8870-3A5236AA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A7BDD-C454-4DD7-A133-FC84B0E9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E839-2568-4AF4-8622-937122AA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C9FC-5249-4AA2-AE89-13B0F4F2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D5DF-9124-43CA-AB28-76F6D4F9E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C3AD-4101-4A2B-A54D-534A1701C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4D53-ECA3-4E28-B2C6-644137B5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B6D1-5ACD-43D4-88BA-C2E81CA1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5538-52E5-4F87-9FFB-1F99919F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99A3-AB9A-4656-A2BB-C01A220D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53E0-799B-439E-B3F3-B96C0332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01C9-75FE-41FA-82FB-0F221E4D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28BE-5120-4890-86B1-C499D093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F691-351F-40E0-8C15-DB81E7BF16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A473-EE29-454D-B046-D16E18ADE6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622960" y="5867280"/>
            <a:ext cx="38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Created by Mark Farm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228680" y="533520"/>
            <a:ext cx="668664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unting Rhythm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9" name="music" descr=""/>
          <p:cNvPicPr/>
          <p:nvPr/>
        </p:nvPicPr>
        <p:blipFill>
          <a:blip r:embed="rId1"/>
          <a:stretch/>
        </p:blipFill>
        <p:spPr>
          <a:xfrm>
            <a:off x="3112920" y="2438280"/>
            <a:ext cx="291816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82480" y="609480"/>
            <a:ext cx="7977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nting rhythms will help you better understand h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play rhythms correctly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will learn how to read a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mete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gnat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score" descr=""/>
          <p:cNvPicPr/>
          <p:nvPr/>
        </p:nvPicPr>
        <p:blipFill>
          <a:blip r:embed="rId1"/>
          <a:stretch/>
        </p:blipFill>
        <p:spPr>
          <a:xfrm>
            <a:off x="0" y="2981160"/>
            <a:ext cx="9144000" cy="8524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992520" y="4419720"/>
            <a:ext cx="715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Meter is the forward progression of accented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unaccented bea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22240" y="66600"/>
            <a:ext cx="809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eter signature looks like a fraction. The top nu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the number of beats in a measure. The bott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mber is the type of note that gets the be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59160" y="2438280"/>
            <a:ext cx="625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66"/>
                </a:solidFill>
                <a:latin typeface="Times New Roman"/>
              </a:rPr>
              <a:t>3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26040" y="3200400"/>
            <a:ext cx="691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66"/>
                </a:solidFill>
                <a:latin typeface="Times New Roman"/>
              </a:rPr>
              <a:t>4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04560" y="5095800"/>
            <a:ext cx="663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e beats to a measure and the quarter no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get the be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43080" y="2362320"/>
            <a:ext cx="8458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op number can be any number. Someti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can show a division of a measure such as 3+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ead of 7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important to remember that the top numb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nothing to do with the number of n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a mea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3560" y="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c66"/>
                </a:solidFill>
                <a:latin typeface="Times New Roman"/>
              </a:rPr>
              <a:t>3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762120"/>
            <a:ext cx="64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6880" y="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0560" y="83808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66"/>
                </a:solidFill>
                <a:latin typeface="Times New Roman"/>
              </a:rPr>
              <a:t>4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01680" y="609480"/>
            <a:ext cx="494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ottom number is the type 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e that gets the be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18680" y="2266920"/>
            <a:ext cx="3300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 =  whole no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 =  half no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  =  quarter no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  =  eighth no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 = sixteenth no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371600" y="3429000"/>
            <a:ext cx="914400" cy="914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54280" y="4451400"/>
            <a:ext cx="170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1-2-3-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4960" y="29718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3429000"/>
            <a:ext cx="52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50840" y="371520"/>
            <a:ext cx="756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hole note in 4/4 time will get 4 counts. The fir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e of any measure will always be count 1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133720" y="3962520"/>
            <a:ext cx="914400" cy="914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048120" y="251460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10080" y="3962520"/>
            <a:ext cx="914400" cy="914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6324480" y="2743200"/>
            <a:ext cx="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11120" y="4952880"/>
            <a:ext cx="8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-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11520" y="4952880"/>
            <a:ext cx="8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-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7360" y="240192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3200" y="320040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74520" y="142920"/>
            <a:ext cx="727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lf notes will get 2 counts each. In 4/4 time th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get counts 1&amp;2 and 3&amp;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523880" y="342900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342900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52880" y="342900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53080" y="342900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438280" y="1828800"/>
            <a:ext cx="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191120" y="190512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867280" y="1980720"/>
            <a:ext cx="0" cy="175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7391160" y="1980720"/>
            <a:ext cx="75960" cy="1676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1280" y="441972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30080" y="441972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30280" y="441972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630480" y="441972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8760" y="199872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2711520"/>
            <a:ext cx="742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7360" y="-9360"/>
            <a:ext cx="7962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arter notes each get 1 count in 4/4 time. Rememb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the number shows the position of the note to t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17680" y="66600"/>
            <a:ext cx="67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arter notes are some of the easiest to cou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9120" y="6825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9907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4960" y="1143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19320" y="1371600"/>
            <a:ext cx="304560" cy="304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371600"/>
            <a:ext cx="304920" cy="304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523880" y="914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362320" y="9144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20760" y="1752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8840" y="1752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895480" y="76176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8120" y="1371600"/>
            <a:ext cx="304560" cy="304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9880" y="1371600"/>
            <a:ext cx="304920" cy="304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352680" y="9144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114800" y="914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560" y="1752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11320" y="1752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0920" y="3078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0920" y="3429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3657600"/>
            <a:ext cx="304920" cy="304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133720" y="3657600"/>
            <a:ext cx="304560" cy="304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95480" y="3657600"/>
            <a:ext cx="304920" cy="304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3657600"/>
            <a:ext cx="304920" cy="304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05520" y="3657600"/>
            <a:ext cx="304560" cy="304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3657600"/>
            <a:ext cx="304920" cy="304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600200" y="3124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438280" y="3124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200400" y="3124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4572000" y="31240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410080" y="32004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248520" y="32004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9880" y="297180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96720" y="4114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11640" y="4191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35160" y="4114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6960" y="4191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73240" y="4114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21360" y="4191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4:20:37Z</dcterms:created>
  <dc:creator>Jefferson County Schools</dc:creator>
  <dc:description/>
  <dc:language>en-US</dc:language>
  <cp:lastModifiedBy>Jefferson County Schools</cp:lastModifiedBy>
  <dcterms:modified xsi:type="dcterms:W3CDTF">1999-11-15T16:22:54Z</dcterms:modified>
  <cp:revision>3</cp:revision>
  <dc:subject/>
  <dc:title>PowerPoint Presentation</dc:title>
</cp:coreProperties>
</file>